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5767-B913-4E7D-9C6F-31083D5F7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to these children as a result of being disaffected for many ye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group drops out the mo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7 – 8 …. “What Happened?” ---- collaboration, working together,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one, write it down so you COMM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A1D-1057-4C28-A4B1-92DA5043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9802-E0D8-4C80-BA13-CD148A8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F5A-45FF-4E91-8D9F-FCF4EDE1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4E2-907D-45EC-8FC5-A86151D8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7F3A1-4878-453C-A891-5B43D11F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49662-2A70-4855-81F0-56BD78B3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52D4-AB67-4D54-B3D1-C2D7D8DA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D271B-6EB1-43CD-AB25-995307F7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5E3DC-385D-4006-87A5-FCB87C1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6522-8CEB-4EF3-AABD-CCC748AA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35F0-8528-4670-8255-A17B2A92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1626-D784-4FDB-B387-B714B47F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40FE-B7D5-444F-86DF-588BB2E8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6A254-30C4-4B11-AF15-708B5278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7DAB2-E67F-4524-9D55-2A27DFE9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90EFB-12FD-4A1E-ACA3-9F2D5F3F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6C39F-4AFB-4CAC-8024-085A2C39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6095-BE93-46A8-9D27-C8DB0F70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D9F-693C-4A5B-9CF9-628871A0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7A6B-8CE1-4515-B043-DDD8C4A2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4B6-2C38-4F0E-98E9-3A48AB9B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F5A-1F8E-4404-8604-315CC56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8D2-0B70-4579-A149-CC385CA0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479-8133-4EEC-8209-3C9F39B8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DB6A-E84A-4EE7-9521-2EF72EE318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AB4B-6508-4C5A-8B43-59BA2363A4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nfiction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Engaging &amp; Motivating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240" y="51814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tne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4038480"/>
            <a:ext cx="17398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638680" y="4078440"/>
            <a:ext cx="2190960" cy="1388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715000" y="4125960"/>
            <a:ext cx="2114640" cy="134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286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22096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43434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udents Who Drop Ou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2038320" cy="1292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16765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36576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ersonalization to help disaffected student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ss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ir own talents and aspi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l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 pathway toward their own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Work cooperative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ith others on challenging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aintain a rec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ir explorations &am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monstrate their lear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gainst clear standards in a variety of med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l with the close support of Adult Mentors &amp; Gu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’s happening with personaliza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447920"/>
          <a:ext cx="8229600" cy="4538520"/>
        </p:xfrm>
        <a:graphic>
          <a:graphicData uri="http://schemas.openxmlformats.org/drawingml/2006/table">
            <a:tbl>
              <a:tblPr/>
              <a:tblGrid>
                <a:gridCol w="4267080"/>
                <a:gridCol w="1295640"/>
                <a:gridCol w="1371600"/>
                <a:gridCol w="1295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are happ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spend time with me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teachers like kid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talk with kids informally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teachers like to play and have fu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n adult in my school I could talk to if I had a probl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705720" y="5943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 Johnston,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www.middleweb.com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762120"/>
            <a:ext cx="1752840" cy="556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ke home points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sonaliz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wo-way communic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vital when working with disaffected learners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A </a:t>
            </a:r>
            <a:r>
              <a:rPr b="0" lang="en-US" sz="4800" spc="-1" strike="noStrike" u="sng">
                <a:solidFill>
                  <a:srgbClr val="e3e3ff"/>
                </a:solidFill>
                <a:uFillTx/>
                <a:latin typeface="Arial"/>
              </a:rPr>
              <a:t>Collaborative Classroom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s like a helium filled hula hoop.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324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Kids are Different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ar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eni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what are they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abo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0065200">
            <a:off x="4420080" y="31240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y want feedback to be timely and two w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illenials See Leadership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participati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actical Strategies for At-Risk Stud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 students at the doo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ice (do 10 out of 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Aggravate them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 a Culture in Your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or – </a:t>
            </a: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www.fanfiction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Rubrics… begin with the end in m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i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se this more frequ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egative Feed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fel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futu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Remember this?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img02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5334120"/>
            <a:ext cx="472464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6629400" y="3962520"/>
            <a:ext cx="1447920" cy="1371600"/>
          </a:xfrm>
          <a:prstGeom prst="line">
            <a:avLst/>
          </a:prstGeom>
          <a:ln w="69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id you get to be as good as you ar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455840" y="1774800"/>
            <a:ext cx="6232320" cy="3319200"/>
            <a:chOff x="1455840" y="1774800"/>
            <a:chExt cx="6232320" cy="3319200"/>
          </a:xfrm>
        </p:grpSpPr>
        <p:sp>
          <p:nvSpPr>
            <p:cNvPr id="150" name="_s12297"/>
            <p:cNvSpPr/>
            <p:nvPr/>
          </p:nvSpPr>
          <p:spPr>
            <a:xfrm>
              <a:off x="3728880" y="2363760"/>
              <a:ext cx="1686240" cy="1685880"/>
            </a:xfrm>
            <a:prstGeom prst="ellipse">
              <a:avLst/>
            </a:prstGeom>
            <a:solidFill>
              <a:srgbClr val="0399ff">
                <a:alpha val="50000"/>
              </a:srgbClr>
            </a:solidFill>
            <a:ln w="936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_s12298"/>
            <p:cNvSpPr/>
            <p:nvPr/>
          </p:nvSpPr>
          <p:spPr>
            <a:xfrm>
              <a:off x="3728880" y="17748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ttitud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12295"/>
            <p:cNvSpPr/>
            <p:nvPr/>
          </p:nvSpPr>
          <p:spPr>
            <a:xfrm>
              <a:off x="4282920" y="3325680"/>
              <a:ext cx="1686240" cy="1685880"/>
            </a:xfrm>
            <a:prstGeom prst="ellipse">
              <a:avLst/>
            </a:prstGeom>
            <a:solidFill>
              <a:srgbClr val="f60802">
                <a:alpha val="50000"/>
              </a:srgbClr>
            </a:solidFill>
            <a:ln w="9360">
              <a:solidFill>
                <a:srgbClr val="f6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2296"/>
            <p:cNvSpPr/>
            <p:nvPr/>
          </p:nvSpPr>
          <p:spPr>
            <a:xfrm>
              <a:off x="600228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nowledg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9"/>
            <p:cNvSpPr/>
            <p:nvPr/>
          </p:nvSpPr>
          <p:spPr>
            <a:xfrm>
              <a:off x="3173400" y="3324240"/>
              <a:ext cx="1685880" cy="1685880"/>
            </a:xfrm>
            <a:prstGeom prst="ellipse">
              <a:avLst/>
            </a:prstGeom>
            <a:solidFill>
              <a:srgbClr val="f1fd09">
                <a:alpha val="50000"/>
              </a:srgbClr>
            </a:solidFill>
            <a:ln w="9360">
              <a:solidFill>
                <a:srgbClr val="f1fd0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2300"/>
            <p:cNvSpPr/>
            <p:nvPr/>
          </p:nvSpPr>
          <p:spPr>
            <a:xfrm>
              <a:off x="1455840" y="46735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kil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type of teacher will you b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467000" cy="1446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3600" y="1600200"/>
            <a:ext cx="1635120" cy="185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905120" y="3968640"/>
            <a:ext cx="1519200" cy="1403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562720" y="4029120"/>
            <a:ext cx="22669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23:22:12Z</dcterms:created>
  <dc:creator>Information Technology</dc:creator>
  <dc:description/>
  <dc:language>en-US</dc:language>
  <cp:lastModifiedBy>setup</cp:lastModifiedBy>
  <dcterms:modified xsi:type="dcterms:W3CDTF">2011-02-18T20:01:11Z</dcterms:modified>
  <cp:revision>12</cp:revision>
  <dc:subject/>
  <dc:title>Engaging the Disaffected Learner </dc:title>
</cp:coreProperties>
</file>